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824-F101-47E4-9F77-83E747F0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0E2-38FC-4773-9EA5-A8F5B7D7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C85B-78E1-4627-BE56-595BC6C1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D5EC6-550A-4F9E-99EC-B271CD2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02E3-08E1-4936-8EE1-DBB6D2A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1EA0B-B563-4C99-9DC3-01A1220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CA367-BA5E-41AC-BDA1-6F6FC6C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091B-D0B9-45CB-93A5-33BD392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57A81-28CA-48D0-8303-7D0DFF6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76C6-A54B-4B67-929D-68138782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B015B-2906-4273-B89B-A432BC66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51195-1784-46A7-8FB7-567574AF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7AB-3CE2-48BC-A96B-026BECC2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C7F6B-AA69-4F35-AF7B-3C918252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8926E-3675-4BCF-8818-0DDF903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E0D07-0055-4DCC-9172-CE2FC420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2BC73-61AA-4A21-B9D1-590B6B69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DFD1-FE21-4BF0-84ED-1583FC1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F1677-0FC7-47BB-BFC9-C632414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566A-7B20-4329-BA72-76C49BC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C8D41-C07A-4A1E-BECB-42E13E2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A6F89-4D88-427A-ADAF-D02B8F1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16E7B-87DB-4E76-A0B5-C53DCEAD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77D-8007-4F1E-A747-62F21400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7321-D81D-46D4-B6CD-A633779B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4FD82-716B-4EA3-85EB-069BE679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7AA33-D319-4A8F-B2A5-21FE6BD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38367-1145-449E-A81D-A748D20A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5F12D-D3D4-4C52-B522-5675CDB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C32D9-FC13-4BB9-A365-5B9E2CC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4BB2-028B-416F-AF2F-0B92F5C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042C2-C98D-44FB-B734-C1FA9C2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DBC0-B933-45A6-AAD8-5694F76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7282B-D8F8-4BA2-AD3C-CD935D1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309-321B-4096-8E5E-2096E749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EE8CB-C5ED-44C6-B08F-7E5F709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712F0-374B-4035-B9A0-6E71042E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FE490-E223-4A8E-A68F-283E6EBA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C2F3E-7352-44A6-9DD2-A08439C9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29833-573D-4744-9C0D-B9CE51F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332B-D689-4F9D-94C0-2D25590C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36305-F1EE-4A17-BE8F-C584D53E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BB0FB-9C28-44ED-8F4D-6EAD32B8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335F5-FDBE-49DB-82DE-ECB30BBB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101FF-9E38-4712-8DBA-2DD92D9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19B-A3B0-40EC-9F76-A9BD237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59DB2-9B39-4E4F-9B1C-17FE1B9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54E46-9C47-4C55-A117-D098777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309C-A62D-4332-843F-C8EA1B3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035A9-C8E5-4033-A4E5-28DC76E7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C914E-7C6E-42A9-85D4-5FA76EC4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CCEF-FF6B-44E7-862F-036F55E8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82B-9339-4139-BAEE-41EA21B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154-060D-4E8C-AC13-5D3C3D7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ABAA-AFC1-4320-8A86-95717E31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8FB1-ECFD-4DF3-BA1A-1A4AA6B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509-75BB-4D7E-BCCC-4B0A394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806C-FEF2-4AE9-B146-0D4D04F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3077-FD4C-404B-ABBA-F966B4E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121A-C3FD-46BF-B2BC-597AA38B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1CF-91E1-4951-A1BA-2BFB2C0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5F2-2220-421D-A66C-02E8E57B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ADF9-2E5C-4893-A3B1-BF816DF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A7AC-2FBB-415A-A8A7-C0281930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CC33-E325-45D8-915E-CF7B1B70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1A0E-B633-4209-B46D-D03BB81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DBBF-3765-4D94-B43B-BD6D3C8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D27-B0B5-4BE9-9D1A-1B44F57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C0BC-3E81-4E35-A26B-F06798C8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50F3-07F7-491E-984A-A95A4FE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0141-3480-4120-82E5-F00B97B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0144-2B80-4CFF-B622-ABD3FB6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0C31-958D-4DA8-B901-331667A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DC68-9CED-4BEF-8229-662D39A8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7B60-326C-49E2-8F4B-07D0043B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01C6-C363-45E9-BD9A-F1E38FB5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2EEA-3BA2-4E92-9E5D-C6A7790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483D-3A3E-482A-98C2-9C8B40E5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2BD-02F8-4949-8A6C-4DAFFB9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72CB-87DA-4062-9CEC-DD524684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C8B8-D26E-4A47-8738-7DC7813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2B3A-DA12-45D6-98F8-E93FD43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E890-60EF-49FA-952E-839C0FD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4547-4E6F-4B67-9D60-D532D14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6949-1414-48B1-BE7B-48CA005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CE10-D9C5-4F3F-8C39-25E4D57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794D-8A98-4BCE-96CF-96F63AF4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D548-3A8D-41F9-8979-221487C9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AC84-C582-4F4B-80FC-1479730F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331-064B-49E5-8C7B-F2D1494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93E7-ED25-4046-B7AA-DB8160E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0452F-219C-4CA1-8EDF-95272E3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87C93-8B7E-4FBC-9790-27137719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F7FF6-B9C8-4FA2-9316-832B1862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7AD0-E52C-4503-BC87-C9DB751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3103-4490-411F-AEEE-3B99C18F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22EE-C97A-4735-ADC3-7D69C69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D847-D92D-488C-88DA-746798E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729A-CCC6-4DDE-ADE7-77E0D01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5810-568F-452A-9898-9BD1B92E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402-94AD-4768-8EF1-0C0FCA2A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43DD7-3E21-4EC5-8921-4C258C7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5990-5720-4B7B-8EE4-0741B286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0533-A878-48EA-A54B-2372FD5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B251-AAAE-4003-A15B-8A890A0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1958-6DB7-4058-AED9-8051B49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08B0-667C-43A5-952C-8D735EC0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15CA-1F4E-4471-A1BD-3D270080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B707-3ACF-42BE-B41F-7CA995BD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C035-984D-4208-93F9-BC749215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5C7E0-D314-4F6B-A993-4135F138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735-9D88-4AC5-9710-BF870A5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2ECA-2E0F-4F33-9DC8-3E05FD2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B198-69F4-47E2-9ABB-4F9D94BA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3C23-C33F-4469-9CD7-33F38C6D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EFC8-D629-42E1-9947-1B61465E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ACF7B-8E68-48F7-A179-D5F26E49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BE33-01EF-4791-830E-9737BCBC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5B22E-C482-4DFA-88DC-F99130D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A487-5F2C-4FD7-AEF4-94305BA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0790-121B-40D1-B0F8-5FB995D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A9D2-1B79-4E12-84CD-5E83078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A88-76BE-4450-9831-2974DE6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9845-95D4-4AB0-8D83-4E0F9DF6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D62F9-BF4D-45C4-8C6C-81ECDB4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8799C-8F0A-4F51-BD58-9DDD48A0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A3C3-6F63-4742-90BF-096B9403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09CDD-7005-4AA5-85E2-5F012386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265F4-0DAB-4F6A-A1E5-C7C765AA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FDD2F-5FB1-4AF4-97FF-5ABEDA3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947AD-EF72-4D71-8157-00FE43A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A892F-27D3-457D-896A-A484F45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3647D-27D3-4028-A0AC-3105544B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5D8-C444-41FE-981A-8FEEC63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6819-45CE-4B25-8C03-2AEC8A1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A58B7-D543-4DFF-B616-C057F82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3FFC-C950-4AE6-92B1-341018DB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4AF0-20DC-4464-8408-4D8913B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4E73-8BB0-48B1-AA17-204BAAE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DC906-2676-434E-ACD0-7ED037DA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8C94-A188-4592-A1E4-BB8B6976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238AC-8D68-4B86-91F7-3884653B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9FB6-59F4-47F0-942C-223CAE4E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4407-06C8-4DE7-BAF9-D18391C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A64D-0C23-4CED-8F28-11334F4977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601-9617-4887-AE65-80DD858F5B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3D6-6608-4063-8307-30D54A5D05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55C-DFC2-4B16-99A4-516F3D5051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8FFD-F106-461E-942D-8649AF30EF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0E5-E639-40CF-835D-46CBA666B6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3B88-CEB4-4FDE-A43C-9871F4DE26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D9D-3B47-4872-A892-741CF86F35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60DC-8B5D-44C7-B0B4-C4B0BCA842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56D-8868-4BE0-A0D1-65CDBF1C06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7E9-BFA8-47DE-95C4-9AFB69DCE4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2C7-FEAC-41A9-AD19-814D36E342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9 Vs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e, bratia, sestr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í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staňme, bratia, sest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lá Boží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pred ísť neváh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istus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je naša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íťazstvo i 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adnym klamným sľubom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c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dajme s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í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staňme, bratia, sestry, láskypln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skoro sa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dmenu dá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om čase t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nám pomôc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ancier viery a meč Ducha zbraňou naš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í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pas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staňme bratia, sestry, v Božej sile vpred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ristovi je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sa dozvie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láve svojej prí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ko Kráľ a 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radostná znieť bude pies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z všetkých sveta strán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11:05Z</dcterms:modified>
  <cp:revision>23</cp:revision>
  <dc:subject/>
  <dc:title>Je veľký náš Pán, on slávy je Kráľ Nech do všetkých strán  spev vrúcnych znie chvál.</dc:title>
</cp:coreProperties>
</file>